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64D5-FB2B-408A-BA9C-EE902A686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4F8C-8F77-4E99-954B-24CBA74BD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7E49-73FB-455A-A113-BE7887E0A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F10F-BD83-4AE1-9275-6DC6A796F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8C2C-25D8-4ECC-90F2-33D4D522CC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9A2B-6343-4509-B359-244C3BEB92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A910-F736-4195-B7B7-7C77A3CEEA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7762-01C0-497B-BAC9-CEE448EE47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E054-6ADC-4194-BFC1-265A5D9685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CCD8-25C7-472C-AE5B-E4B851BB29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1A53-143E-41ED-8759-19B630C0B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488B-3EB0-41B0-83DF-49E73EBC9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519D-A9E6-4A7A-9449-1413020E5B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E80C-B671-491D-8ED6-15E783D6A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8E4E-9767-45FF-AA50-D4B5094415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D5AD-56D8-4BBD-B1EB-DD9DD8CCF8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A352-0C87-4E44-82F6-524FD3C82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9190-57E1-4E4A-B9F0-3A3124D58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307B-283F-4CA8-B90C-5CA31D2E1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FC7F-B632-46F3-84E1-95DE903DE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6DCE-86FC-4B02-A969-762E1014C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16CE-68B7-4E84-9F6A-540514E85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A004-6F7E-4008-9994-7104D2C3D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A204-5918-413F-9C11-5F998A97B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380880"/>
            <a:ext cx="8229600" cy="609840"/>
          </a:xfrm>
          <a:prstGeom prst="pie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ìnpe_simbolo.jpg" descr="ìnpe_simbolo.jpg"/>
          <p:cNvPicPr/>
          <p:nvPr/>
        </p:nvPicPr>
        <p:blipFill>
          <a:blip r:embed="rId2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F68F-672A-4886-A50A-9738906A32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229600" cy="609840"/>
          </a:xfrm>
          <a:prstGeom prst="pie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ìnpe_simbolo.jpg" descr="ìnpe_simbolo.jpg"/>
          <p:cNvPicPr/>
          <p:nvPr/>
        </p:nvPicPr>
        <p:blipFill>
          <a:blip r:embed="rId2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6" name="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logocomp.png" descr="logocomp"/>
          <p:cNvPicPr/>
          <p:nvPr/>
        </p:nvPicPr>
        <p:blipFill>
          <a:blip r:embed="rId3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18DF-BE24-4CD8-9E40-51043A87904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ystem Dynamic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ão José dos Campos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asted-image.png" descr=""/>
          <p:cNvPicPr/>
          <p:nvPr/>
        </p:nvPicPr>
        <p:blipFill>
          <a:blip r:embed="rId1"/>
          <a:stretch/>
        </p:blipFill>
        <p:spPr>
          <a:xfrm>
            <a:off x="182520" y="919080"/>
            <a:ext cx="8518680" cy="59832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0720" y="333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ater in the tub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787400" y="3348000"/>
            <a:ext cx="69850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l stock: water in tub = 40 gall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ter in tub(t) = water in tub(t – dt) – outflow x d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time = 8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flow = 5 gal/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asted-image.png" descr=""/>
          <p:cNvPicPr/>
          <p:nvPr/>
        </p:nvPicPr>
        <p:blipFill>
          <a:blip r:embed="rId1"/>
          <a:stretch/>
        </p:blipFill>
        <p:spPr>
          <a:xfrm>
            <a:off x="182520" y="919080"/>
            <a:ext cx="8518680" cy="5983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10720" y="333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ater in the tub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7040" y="3347640"/>
            <a:ext cx="6985080" cy="26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l stock: water in tub = 40 gall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ter in tub(t) = water in tub(t – dt) – outflow x d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=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 = 1 min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time = 8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flow = 5 gal/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00"/>
              </a:spcBef>
              <a:buClr>
                <a:srgbClr val="00007d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low = 40 gal every 1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onclus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988640"/>
            <a:ext cx="853452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ways to increase st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cks act as delays or buf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cks allow inflows and outflows to be deco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ow to model Natural-Society systems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522360" y="4727520"/>
            <a:ext cx="8902800" cy="1968480"/>
          </a:xfrm>
          <a:prstGeom prst="rect">
            <a:avLst/>
          </a:prstGeom>
          <a:noFill/>
          <a:ln w="9360">
            <a:solidFill>
              <a:srgbClr val="cccc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73120" y="2973240"/>
            <a:ext cx="2317320" cy="1606680"/>
            <a:chOff x="573120" y="2973240"/>
            <a:chExt cx="2317320" cy="1606680"/>
          </a:xfrm>
        </p:grpSpPr>
        <p:sp>
          <p:nvSpPr>
            <p:cNvPr id="101" name=""/>
            <p:cNvSpPr/>
            <p:nvPr/>
          </p:nvSpPr>
          <p:spPr>
            <a:xfrm flipH="1">
              <a:off x="573120" y="2973240"/>
              <a:ext cx="2253600" cy="1606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470320" y="4065480"/>
              <a:ext cx="375480" cy="26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639880" y="4157280"/>
              <a:ext cx="250200" cy="17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702880" y="4201920"/>
              <a:ext cx="124920" cy="8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46200" y="3059640"/>
              <a:ext cx="2067480" cy="136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E01561_.pdf" descr="PE01561_"/>
          <p:cNvPicPr/>
          <p:nvPr/>
        </p:nvPicPr>
        <p:blipFill>
          <a:blip r:embed="rId1"/>
          <a:stretch/>
        </p:blipFill>
        <p:spPr>
          <a:xfrm>
            <a:off x="2585880" y="3975120"/>
            <a:ext cx="3529080" cy="22734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332320" y="4079880"/>
            <a:ext cx="3702240" cy="2227320"/>
            <a:chOff x="5332320" y="4079880"/>
            <a:chExt cx="3702240" cy="2227320"/>
          </a:xfrm>
        </p:grpSpPr>
        <p:sp>
          <p:nvSpPr>
            <p:cNvPr id="108" name=""/>
            <p:cNvSpPr/>
            <p:nvPr/>
          </p:nvSpPr>
          <p:spPr>
            <a:xfrm>
              <a:off x="6293880" y="4396320"/>
              <a:ext cx="2740680" cy="1910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01920" y="4417560"/>
              <a:ext cx="456840" cy="31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7000" y="4216320"/>
              <a:ext cx="304560" cy="21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2320" y="4079880"/>
              <a:ext cx="152280" cy="10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30320" y="4499280"/>
              <a:ext cx="2514240" cy="1626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npo000008.png" descr="npo000008"/>
          <p:cNvPicPr/>
          <p:nvPr/>
        </p:nvPicPr>
        <p:blipFill>
          <a:blip r:embed="rId2"/>
          <a:stretch/>
        </p:blipFill>
        <p:spPr>
          <a:xfrm>
            <a:off x="5810400" y="3338640"/>
            <a:ext cx="1110960" cy="357120"/>
          </a:xfrm>
          <a:prstGeom prst="rect">
            <a:avLst/>
          </a:prstGeom>
          <a:ln w="0">
            <a:noFill/>
          </a:ln>
        </p:spPr>
      </p:pic>
      <p:pic>
        <p:nvPicPr>
          <p:cNvPr id="114" name="npo00000a.png" descr="npo00000a"/>
          <p:cNvPicPr/>
          <p:nvPr/>
        </p:nvPicPr>
        <p:blipFill>
          <a:blip r:embed="rId3"/>
          <a:stretch/>
        </p:blipFill>
        <p:spPr>
          <a:xfrm>
            <a:off x="5970600" y="3821040"/>
            <a:ext cx="1023840" cy="365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452640" y="3557520"/>
            <a:ext cx="12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... ? ) then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91080" y="3164040"/>
            <a:ext cx="3689280" cy="1047600"/>
            <a:chOff x="4591080" y="3164040"/>
            <a:chExt cx="3689280" cy="1047600"/>
          </a:xfrm>
        </p:grpSpPr>
        <p:sp>
          <p:nvSpPr>
            <p:cNvPr id="117" name=""/>
            <p:cNvSpPr/>
            <p:nvPr/>
          </p:nvSpPr>
          <p:spPr>
            <a:xfrm>
              <a:off x="5404320" y="3164040"/>
              <a:ext cx="2876040" cy="104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80600" y="3524760"/>
              <a:ext cx="479160" cy="17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06640" y="3537360"/>
              <a:ext cx="31932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3557160"/>
              <a:ext cx="159480" cy="57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47240" y="3220560"/>
              <a:ext cx="2638800" cy="89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2" name="npo00000d.png" descr="npo00000d"/>
          <p:cNvPicPr/>
          <p:nvPr/>
        </p:nvPicPr>
        <p:blipFill>
          <a:blip r:embed="rId4"/>
          <a:stretch/>
        </p:blipFill>
        <p:spPr>
          <a:xfrm>
            <a:off x="7134120" y="4627440"/>
            <a:ext cx="1435320" cy="1173240"/>
          </a:xfrm>
          <a:prstGeom prst="rect">
            <a:avLst/>
          </a:prstGeom>
          <a:ln w="0">
            <a:noFill/>
          </a:ln>
        </p:spPr>
      </p:pic>
      <p:pic>
        <p:nvPicPr>
          <p:cNvPr id="123" name="BD04972_.pdf" descr="BD04972_"/>
          <p:cNvPicPr/>
          <p:nvPr/>
        </p:nvPicPr>
        <p:blipFill>
          <a:blip r:embed="rId5"/>
          <a:stretch/>
        </p:blipFill>
        <p:spPr>
          <a:xfrm>
            <a:off x="838080" y="3198960"/>
            <a:ext cx="1044720" cy="782640"/>
          </a:xfrm>
          <a:prstGeom prst="rect">
            <a:avLst/>
          </a:prstGeom>
          <a:ln w="0">
            <a:noFill/>
          </a:ln>
        </p:spPr>
      </p:pic>
      <p:pic>
        <p:nvPicPr>
          <p:cNvPr id="124" name="BD05545_.pdf" descr="BD05545_"/>
          <p:cNvPicPr/>
          <p:nvPr/>
        </p:nvPicPr>
        <p:blipFill>
          <a:blip r:embed="rId6"/>
          <a:stretch/>
        </p:blipFill>
        <p:spPr>
          <a:xfrm>
            <a:off x="1673280" y="3581280"/>
            <a:ext cx="822240" cy="80640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2914560" y="2706840"/>
            <a:ext cx="2279880" cy="1009440"/>
            <a:chOff x="2914560" y="2706840"/>
            <a:chExt cx="2279880" cy="1009440"/>
          </a:xfrm>
        </p:grpSpPr>
        <p:sp>
          <p:nvSpPr>
            <p:cNvPr id="126" name=""/>
            <p:cNvSpPr/>
            <p:nvPr/>
          </p:nvSpPr>
          <p:spPr>
            <a:xfrm>
              <a:off x="2914560" y="2706840"/>
              <a:ext cx="2279880" cy="10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5280" y="3516480"/>
              <a:ext cx="379800" cy="16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4400" y="3489840"/>
              <a:ext cx="253080" cy="11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5760" y="3507480"/>
              <a:ext cx="126360" cy="5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7960" y="2761200"/>
              <a:ext cx="2091960" cy="85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npo00000f.jpg" descr="npo00000f"/>
          <p:cNvPicPr/>
          <p:nvPr/>
        </p:nvPicPr>
        <p:blipFill>
          <a:blip r:embed="rId7"/>
          <a:stretch/>
        </p:blipFill>
        <p:spPr>
          <a:xfrm>
            <a:off x="3201840" y="2925720"/>
            <a:ext cx="825480" cy="619200"/>
          </a:xfrm>
          <a:prstGeom prst="rect">
            <a:avLst/>
          </a:prstGeom>
          <a:ln w="0">
            <a:noFill/>
          </a:ln>
        </p:spPr>
      </p:pic>
      <p:pic>
        <p:nvPicPr>
          <p:cNvPr id="132" name="npo000011.jpg" descr="npo000011"/>
          <p:cNvPicPr/>
          <p:nvPr/>
        </p:nvPicPr>
        <p:blipFill>
          <a:blip r:embed="rId8"/>
          <a:stretch/>
        </p:blipFill>
        <p:spPr>
          <a:xfrm>
            <a:off x="4205160" y="2793960"/>
            <a:ext cx="52884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132000" y="6308640"/>
            <a:ext cx="2446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umnst777 BT"/>
                <a:ea typeface="Humnst777 BT"/>
              </a:rPr>
              <a:t>Desforest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849680" y="1341360"/>
            <a:ext cx="5741640" cy="945000"/>
          </a:xfrm>
          <a:prstGeom prst="rect">
            <a:avLst/>
          </a:prstGeom>
          <a:solidFill>
            <a:srgbClr val="ebeb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  <a:ea typeface="Calibri"/>
              </a:rPr>
              <a:t>Connect expertise from different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  <a:ea typeface="Calibri"/>
              </a:rPr>
              <a:t>Make the different conceptions explic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en-US" sz="1700" spc="-1" strike="noStrike">
                <a:solidFill>
                  <a:srgbClr val="ff3300"/>
                </a:solidFill>
                <a:latin typeface="Calibri"/>
              </a:rPr>
              <a:t>[The] advantage of a mathematical statement is that it is so definite that it might be definitely wrong…..Some verbal statements have not this merit; they are so vague that they could hardly be wrong, and are correspondingly useless.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wis Fry Richardson (1881-1953) – first to apply mathematical methods to numerical weather predi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7" name="image.png" descr=""/>
          <p:cNvPicPr/>
          <p:nvPr/>
        </p:nvPicPr>
        <p:blipFill>
          <a:blip r:embed="rId1"/>
          <a:stretch/>
        </p:blipFill>
        <p:spPr>
          <a:xfrm>
            <a:off x="755640" y="3705120"/>
            <a:ext cx="2575080" cy="3132360"/>
          </a:xfrm>
          <a:prstGeom prst="rect">
            <a:avLst/>
          </a:prstGeom>
          <a:ln w="0">
            <a:noFill/>
          </a:ln>
        </p:spPr>
      </p:pic>
      <p:pic>
        <p:nvPicPr>
          <p:cNvPr id="138" name="image.png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527280" cy="29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2720" y="407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 syste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989000"/>
            <a:ext cx="853452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ystem is a group of different components that interact with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identify par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the parts affect each other? Ho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2" name="image.png" descr=""/>
          <p:cNvPicPr/>
          <p:nvPr/>
        </p:nvPicPr>
        <p:blipFill>
          <a:blip r:embed="rId1"/>
          <a:stretch/>
        </p:blipFill>
        <p:spPr>
          <a:xfrm>
            <a:off x="-33480" y="0"/>
            <a:ext cx="919800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4" name="image.png" descr=""/>
          <p:cNvPicPr/>
          <p:nvPr/>
        </p:nvPicPr>
        <p:blipFill>
          <a:blip r:embed="rId1"/>
          <a:stretch/>
        </p:blipFill>
        <p:spPr>
          <a:xfrm>
            <a:off x="0" y="-27000"/>
            <a:ext cx="9159840" cy="6218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165720"/>
            <a:ext cx="914400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.png" descr=""/>
          <p:cNvPicPr/>
          <p:nvPr/>
        </p:nvPicPr>
        <p:blipFill>
          <a:blip r:embed="rId1"/>
          <a:stretch/>
        </p:blipFill>
        <p:spPr>
          <a:xfrm>
            <a:off x="0" y="1184400"/>
            <a:ext cx="9410760" cy="5700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Earth as a system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107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ystem Dynamic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3360" y="1955880"/>
            <a:ext cx="822960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measurable part of reality can be mode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represented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oc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l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ck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present energy, matter, or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lo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and transport st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07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ystems Theory: stocks and flow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6388200"/>
            <a:ext cx="2700360" cy="39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</a:rPr>
              <a:t>source: Meadows,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image.png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8245440" cy="18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76360" y="4508640"/>
            <a:ext cx="5472000" cy="64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f"/>
                </a:solidFill>
                <a:latin typeface="Calibri"/>
              </a:rPr>
              <a:t>Stocks: measurable e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f"/>
                </a:solidFill>
                <a:latin typeface="Calibri"/>
              </a:rPr>
              <a:t>Flows: changes in stocks over ti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